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2E8-E11A-4314-97E9-C7CAE95C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6D3-2561-42D4-8196-0C6A1F5A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B10-3FEC-443A-BD6C-D5794A3A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DFB-A5BF-4A6F-A035-324E7114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304-CB9A-4865-AC49-3DCC1DDF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288F-ED78-4B30-B7BC-18E20DE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6C2-3294-481B-837F-19D27074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A770-6063-4FAD-BAFB-AC9E74AA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D1C4-2462-4CDD-A76B-783563F8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534-7FCA-4BE7-940A-00A93A2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4705-B31C-4AB3-A8A7-3260FD7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B4B-BFE2-4F69-A1BB-95B8C3B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4221-4EF5-48B8-82A4-5594983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B815-75EB-4027-B4CA-95F673C7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1030-6592-404E-8CB0-B70FA55A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33B-0031-40C9-AF76-0A29CC5C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C8A4-343C-4846-A639-235F462E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072-7CE7-4115-923E-7F06C612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218-FB39-46C1-AA34-63849DDF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F40-C6EE-4C2B-B1D1-D935AF02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0E6-AA1C-4A66-B10C-2D9827B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2F7-8664-439C-B69E-0277D12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7FA-DAB5-4F3E-AB2E-5DDADA8A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38A-47AE-43A1-9F64-09BD69FF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94D9-85BA-44E5-8E39-429BC028D6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2294-A135-4773-9F83-AD503623B6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8360" y="1830240"/>
            <a:ext cx="259236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Police are very fa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Police are smar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Police are highly traine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666880" cy="17146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2160720" cy="1711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262880" y="321300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 u="sng">
                <a:solidFill>
                  <a:srgbClr val="ffcc00"/>
                </a:solidFill>
                <a:uFillTx/>
                <a:latin typeface="Arial"/>
              </a:rPr>
              <a:t>Police are good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 Black"/>
              </a:rPr>
              <a:t>Police dog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51640" y="3716280"/>
            <a:ext cx="28065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train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5010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Thumbnail"/>
          <p:cNvPicPr/>
          <p:nvPr/>
        </p:nvPicPr>
        <p:blipFill>
          <a:blip r:embed="rId2"/>
          <a:stretch/>
        </p:blipFill>
        <p:spPr>
          <a:xfrm>
            <a:off x="3132000" y="1989000"/>
            <a:ext cx="2808360" cy="2303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8532720" y="3284640"/>
            <a:ext cx="184320" cy="18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ffcc00"/>
                </a:solidFill>
                <a:uFillTx/>
                <a:latin typeface="Arial"/>
              </a:rPr>
              <a:t>http://www.youtube.com/watch?v=TIRvVBpT-4w&amp;feature=player_detailpage#t=119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635280" y="5229360"/>
            <a:ext cx="194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Swat and polic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wat has heavy armed vocals and a very big track that car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w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Police cars are  orange and blue and red and white ca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Swat are a good tea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76720" y="5013360"/>
            <a:ext cx="3533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and criminals </a:t>
            </a:r>
            <a:br>
              <a:rPr sz="4400"/>
            </a:b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Criminals are bad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tch the bad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411280" y="5013360"/>
            <a:ext cx="2857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Swa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wat are a type of pol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a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356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1:44:23Z</dcterms:created>
  <dc:creator>5e17</dc:creator>
  <dc:description/>
  <dc:language>en-US</dc:language>
  <cp:lastModifiedBy>5e17</cp:lastModifiedBy>
  <dcterms:modified xsi:type="dcterms:W3CDTF">2011-09-09T00:00:47Z</dcterms:modified>
  <cp:revision>8</cp:revision>
  <dc:subject/>
  <dc:title>police</dc:title>
</cp:coreProperties>
</file>